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84D-C8B3-48B8-ADD5-4D14E120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E85-2370-4289-8D0D-3C301296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AFF-268B-46CD-A0A8-5BCE01C2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12F-65C6-413F-A2BF-BC43D6F9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374D2-05C4-4971-B7E9-96ED4A0C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271BE-5472-4F2C-90E0-F2ED7EB8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E48BB-E32C-4E81-AB15-7E453391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78FC7-79FB-4A36-B86D-68C8B95D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06596-9616-484B-A15C-15C54EE7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09C6B-08F3-456F-9893-B0652B05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4DEF2-20EA-469D-80ED-E4212DCD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8B5-7CAE-4859-A562-AB8801BC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8AD66-0EF3-4F5B-B966-7E064D50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03CA5-4514-4CB7-AF76-AE504B2D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9A1B2-6737-4A4A-B419-F53F73F9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AD174-31CD-4805-8022-22B8FB68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0BDCC-0D06-4CAA-B66F-0ECD2998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E61-0AF0-4EEA-9938-63DF964B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BCF-F213-4DB5-8DD7-F9BE6985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FD1-66D5-4807-B822-26F52B4B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BCD-F5B3-4AAF-8F75-F81970BA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33C0-41AC-44BA-91CB-2DCF126D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AA3-85FF-4A63-9EB6-31BBA1DA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DA6-9D11-40C0-BBF4-3B166478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0837-16CA-42D0-8801-5B63B4441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F06A-5574-4295-937C-B84CFFEA2B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мметрия вокруг на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715000" y="4648320"/>
            <a:ext cx="2971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ная работа учащихся 2 клас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сецкая Л.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Бавлы 2010-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leaf-1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17521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4 этап.Представление результатов исследования.</a:t>
            </a:r>
            <a:br>
              <a:rPr sz="18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52280" y="304920"/>
            <a:ext cx="87631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Познакомить учащихся с симметрией,с видами симмет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Формировать умение работать источниками             литературы,навыки самостоятельной рабо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ремя исследован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-3 четвер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раст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 кла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6" descr="2"/>
          <p:cNvPicPr/>
          <p:nvPr/>
        </p:nvPicPr>
        <p:blipFill>
          <a:blip r:embed="rId1"/>
          <a:stretch/>
        </p:blipFill>
        <p:spPr>
          <a:xfrm>
            <a:off x="1371600" y="3321000"/>
            <a:ext cx="548640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0_700b_d001427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1 этап.Погружение в проект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                                                  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Есть ли будущее без симметрии?                                                        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0_16a45_b338c28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52280" y="0"/>
            <a:ext cx="86868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2 этап.Работа над проектом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Что такое симметрия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Где вокруг нас симметрия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Виды симметрия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0_f895_5af8e4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aboc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2784521_large"/>
          <p:cNvPicPr/>
          <p:nvPr/>
        </p:nvPicPr>
        <p:blipFill>
          <a:blip r:embed="rId1"/>
          <a:stretch/>
        </p:blipFill>
        <p:spPr>
          <a:xfrm>
            <a:off x="0" y="3352680"/>
            <a:ext cx="3352680" cy="3505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risunok192"/>
          <p:cNvPicPr/>
          <p:nvPr/>
        </p:nvPicPr>
        <p:blipFill>
          <a:blip r:embed="rId2"/>
          <a:stretch/>
        </p:blipFill>
        <p:spPr>
          <a:xfrm>
            <a:off x="0" y="380880"/>
            <a:ext cx="3429000" cy="3353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1260623899_547"/>
          <p:cNvPicPr/>
          <p:nvPr/>
        </p:nvPicPr>
        <p:blipFill>
          <a:blip r:embed="rId3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150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150086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1290882055_podsolnuh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228600" y="380880"/>
            <a:ext cx="8915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3 этап.Самостоятельные исследования учащихся в рамках учебного проек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Виды симмет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усецкая Лена</cp:lastModifiedBy>
  <dcterms:modified xsi:type="dcterms:W3CDTF">2011-04-09T05:28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